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FA99-4B50-44C0-9BB9-76C66C2CBB0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some of the 200 Gurindji stockman who worked on Wave Hill cattle s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 Wave hill Walk off was a  big event that had happened in August 196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t was a group of aboriginal people who went on something like a strik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00 Gurindji stockmen and their fami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orkers, children, families walked away from what they got sick of.. And what wasn’t r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 Wave Hill Walk of happened at wave hill cattle station in Northern Terri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y were exploited on  the station since it was established by a British company, Vesteys, in 1880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 aboriginal camped out Wattie Creek, which they later called Dagurag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200 men, women and children decided to walk of off the Wave Hill cattle station. The strike lasted for nine years, from 1966 until 197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ader Vincent Lingiari took 200 workers and walked of, they did this because the Aboriginals felt they weren't getting treated fair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idn’t get paid a good amount, mistreatment and poor working conditions became a campaign for Aboriginal righ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The Gurindji people eventually won their fight. It was in 1975 that they got there land, it was officially handed back to then by the Labour Prime Minister Gough Whitl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Today the wave hill walk–off is regarded by many as the beginning of the modern Aboriginal Land rights m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ADF-EB0B-43A2-9DB6-85BA8E71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3224-081C-4AD6-8C4E-320F2FC8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2AE8-1BB2-49B9-AFDC-301C66A2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9F6F-1DDD-4C6F-A8CA-BE3BFC62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0A07-E8AD-48B3-ADA1-B4F5FE9F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2FAA-DE96-4903-863A-7E149679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2733-344A-45D3-B429-FC3F2064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E883-682B-493D-B93F-3EAE7873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7EE6-3758-43BC-9BA3-0961C44E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81B8-4721-4B75-9F88-2512CB5F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739-9BAA-4A0F-8DE9-53F89450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C6EC-8330-4A24-9FC3-1E9F21AA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D595-C6B8-454F-B13F-A446A1110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9640" y="765000"/>
            <a:ext cx="7452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Edwardian Script ITC"/>
              </a:rPr>
              <a:t>Wave Hill Walk - Of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Edwardian Script ITC"/>
              <a:ea typeface="Edwardian Script ITC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8028000" cy="268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08000" y="2133720"/>
            <a:ext cx="5329440" cy="399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Aleksandra and Anka 9P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39640" y="692280"/>
            <a:ext cx="4105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Walk Of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1413000"/>
            <a:ext cx="6048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1966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Gurindji stock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529092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268360" y="333360"/>
            <a:ext cx="424044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Wave Hill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060640"/>
            <a:ext cx="3311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attle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rthern Territo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estey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attie Cr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19640" y="2619360"/>
            <a:ext cx="50418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940360" y="4869000"/>
            <a:ext cx="2879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How?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76280"/>
            <a:ext cx="83534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group of 200 Aboriginal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 Hill cattle stati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6 until 1975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3357720"/>
            <a:ext cx="475452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843280" y="1989000"/>
            <a:ext cx="345744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Who &amp; Why?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620640"/>
            <a:ext cx="712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ncent Lingi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4941720"/>
            <a:ext cx="7274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working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riginal ri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2924280"/>
            <a:ext cx="244764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916360" y="404640"/>
            <a:ext cx="5435640" cy="16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lackadder ITC"/>
              </a:rPr>
              <a:t>In the End...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lackadder ITC"/>
              <a:ea typeface="Blackadder ITC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2637000"/>
            <a:ext cx="8353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n their f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7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our Prime Minister Gough Whitl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ve hill walk–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1574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1:30:12Z</dcterms:created>
  <dc:creator>Reservoir District Secondary College</dc:creator>
  <dc:description/>
  <dc:language>en-US</dc:language>
  <cp:lastModifiedBy>Reservoir District Secondary College</cp:lastModifiedBy>
  <dcterms:modified xsi:type="dcterms:W3CDTF">2008-06-05T02:43:10Z</dcterms:modified>
  <cp:revision>7</cp:revision>
  <dc:subject/>
  <dc:title>Slide 1</dc:title>
</cp:coreProperties>
</file>